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32F-5070-4732-885E-52F53EEB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8D6-383F-4849-8CF2-0433EFE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075-4AA5-49B0-9D06-92B93B33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F0D-215C-4D44-ADD1-87F7E41D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9D0-F775-47DA-9DA5-450B4E75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B77-ED9B-4215-B4A6-E123F7F3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7BE-9BA9-4F27-A93A-27CDCA3C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54B-B5E5-4CC6-9241-95AABEF6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308-2A8E-4FF9-B3B6-07C25B6B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54D-AF10-4EA0-9498-A9AECE3E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5E1-390A-4CA5-BAC7-D51CE9B3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73B-ECC2-427D-9635-C025E9B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C58F-DE5F-4BE1-84BF-8F0156DFD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youtu.be/_EKbbo9HPS4?t=4m38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Microsoft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Cloud and Enterprise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Symbol Set for PowerPoin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Content Placeholder 2"/>
          <p:cNvSpPr/>
          <p:nvPr/>
        </p:nvSpPr>
        <p:spPr>
          <a:xfrm>
            <a:off x="838080" y="4032360"/>
            <a:ext cx="1051560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open the instructions that came with this symbol set to learn how to use them in PowerPoint. PowerPoint specific video training available at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youtu.be/_EKbbo9HPS4?t=4m38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21:19:46Z</dcterms:created>
  <dc:creator>Rob Boucher</dc:creator>
  <dc:description/>
  <dc:language>en-US</dc:language>
  <cp:lastModifiedBy>Rob Boucher Jr</cp:lastModifiedBy>
  <dcterms:modified xsi:type="dcterms:W3CDTF">2016-07-11T20:22:14Z</dcterms:modified>
  <cp:revision>7</cp:revision>
  <dc:subject/>
  <dc:title>Cloud and Enterprise Symbol Set for PowerPoint</dc:title>
</cp:coreProperties>
</file>